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2.png" ContentType="image/png"/>
  <Override PartName="/ppt/media/image13.png" ContentType="image/png"/>
  <Override PartName="/ppt/media/image37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15.png" ContentType="image/png"/>
  <Override PartName="/ppt/media/image43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7AC-5FF9-4DED-B7EA-ABB02E27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1C4-508B-4A66-A3E5-7AF46BD5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95F-4707-445F-9082-2A6C4D5D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589-5541-467A-8C65-1C6875AA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0C81-FCF5-4A7E-9AEE-42F35A14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FB7-F6E1-41A3-95D1-95C41581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9F85-834D-40F8-B2D9-2805E706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5B4F-D390-442B-A5B8-C3C8E09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23E5-688E-4F6F-9206-44EEBE86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510-A058-4C76-AC0C-64B7B2A7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4FB8-7F14-4021-A5C7-75C9F619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9BA-3E84-45CD-A4CD-34BF8764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3D4-3BDA-4E3B-A6C7-3FE28C47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F788-F41F-42DE-8563-3184B08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BF02-834E-4670-AE8E-3CDD310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7FA2-8A33-4018-9EFB-08569F88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111A-0FE8-448F-B0A6-951A4D63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58A20-5C82-4CEC-BFB6-4C2DBA42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500D-904B-4376-8408-230BE997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6993-66D4-498B-A711-7FE60EC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EC31-679B-4483-AD01-B27F247B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E31CC-1773-4572-8FDB-81923514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561-A67A-4CCB-A3AD-1DF2D41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4FD6-97BA-4C4F-AC6C-61BFDEA4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0DD3-F923-4B28-B34D-C9DF313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DB43-97CD-42A7-B957-0AA5154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5BCB-F14D-446A-995F-80413F7D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8DEA-0732-4D5C-8D7D-0A1CCA41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3D53-ECCD-4BBC-AB70-757AB72A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0BEA3-5E5F-47CB-8A2B-E80B38A1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A33E-EB77-492D-AF0D-BA562165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31E7-9116-494B-93A0-8CA6CC32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3ACE-8459-40D2-BBFF-E9E1B1B1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DFB-DA1D-4A87-A6EC-0A89351A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C0F9-EE10-44FF-902C-4AC9155B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94F2-3662-4441-AE88-5AEEB6A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7B6B-F094-4B80-AA6B-BAD3A4BA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6A291-7153-4BB8-8C17-BF2A8E98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3C2E-172B-4683-86D2-86FE6EA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24F9-9375-47CD-88F3-6F0BCD1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29E1-668C-4771-960E-F0C12C48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9052-3C7C-46A8-B36F-89635D95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DC20-46D9-4CE5-A9FA-4940B841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C9A-D188-4515-8010-F58A05FB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D71-4503-418F-AD9C-47882002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D25-3CC5-41EB-8E4D-4AAA5E8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C47-FEE5-4542-AB27-1DC0681D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ED9-1B38-425E-9BD9-34E5BF7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4CF4-629E-4090-A6F2-D5AD430CFB12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A288-0793-4B0F-94DE-DE9F54D0A24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7A9F-7956-412E-BF4A-FACB30F96559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1203-B52B-493D-8C12-E0FEC78F53E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97CC-185E-4831-B9BA-62BF3DFD642B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FC8C-E247-438E-A541-7DD2777780A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8376-54A7-4BD3-A154-EC249611309A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C3A9-80C8-4657-9088-DF9B266633E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8534520" y="6324480"/>
            <a:ext cx="533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E85E-3BA8-4D1D-8D97-1774AE7DBD9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990720" y="2057400"/>
            <a:ext cx="783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е развит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838080" y="5181480"/>
            <a:ext cx="80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ладчик: Первый заместитель главы администрации города Кудымкара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гвиненко Андрей Александр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0" y="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431640" y="503280"/>
            <a:ext cx="711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8"/>
          <p:cNvSpPr/>
          <p:nvPr/>
        </p:nvSpPr>
        <p:spPr>
          <a:xfrm>
            <a:off x="2016000" y="1060560"/>
            <a:ext cx="55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. Дзержинского, ул. Красноармейская (до начала выполнения раб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2266200" y="3929040"/>
            <a:ext cx="527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. Дзержинского, ул. Красноармейская (после выполнения раб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180036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борка несанкционированных сва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047C-E57A-4058-9054-FB3D49185B0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2" descr="C:\Documents and Settings\Владелец\Рабочий стол\Таня\общественные работы 2013\ООО Чистый город\фото\на май\до\DSC02278.JPG"/>
          <p:cNvPicPr/>
          <p:nvPr/>
        </p:nvPicPr>
        <p:blipFill>
          <a:blip r:embed="rId1"/>
          <a:stretch/>
        </p:blipFill>
        <p:spPr>
          <a:xfrm>
            <a:off x="457200" y="1371600"/>
            <a:ext cx="2803680" cy="216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C:\Documents and Settings\Владелец\Рабочий стол\Таня\общественные работы 2013\ООО Чистый город\фото\на май\до\DSC02286.JPG"/>
          <p:cNvPicPr/>
          <p:nvPr/>
        </p:nvPicPr>
        <p:blipFill>
          <a:blip r:embed="rId2"/>
          <a:stretch/>
        </p:blipFill>
        <p:spPr>
          <a:xfrm>
            <a:off x="3429000" y="1371600"/>
            <a:ext cx="2666880" cy="216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C:\Documents and Settings\Владелец\Рабочий стол\Таня\общественные работы 2013\ООО Чистый город\фото\на май\до\DSC02296.JPG"/>
          <p:cNvPicPr/>
          <p:nvPr/>
        </p:nvPicPr>
        <p:blipFill>
          <a:blip r:embed="rId3"/>
          <a:stretch/>
        </p:blipFill>
        <p:spPr>
          <a:xfrm>
            <a:off x="6172200" y="1371600"/>
            <a:ext cx="2498760" cy="216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C:\Documents and Settings\Владелец\Рабочий стол\Таня\общественные работы 2013\ООО Чистый город\фото\на май\после\Фото-0077.jpg"/>
          <p:cNvPicPr/>
          <p:nvPr/>
        </p:nvPicPr>
        <p:blipFill>
          <a:blip r:embed="rId4"/>
          <a:stretch/>
        </p:blipFill>
        <p:spPr>
          <a:xfrm>
            <a:off x="457200" y="4267080"/>
            <a:ext cx="2743200" cy="216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C:\Documents and Settings\Владелец\Рабочий стол\Таня\общественные работы 2013\ООО Чистый город\фото\на май\после\Фото-0076.jpg"/>
          <p:cNvPicPr/>
          <p:nvPr/>
        </p:nvPicPr>
        <p:blipFill>
          <a:blip r:embed="rId5"/>
          <a:stretch/>
        </p:blipFill>
        <p:spPr>
          <a:xfrm>
            <a:off x="3276720" y="4267080"/>
            <a:ext cx="2666880" cy="2160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7" descr="C:\Documents and Settings\Владелец\Рабочий стол\Таня\общественные работы 2013\ООО Чистый город\фото\на май\после\Красноармейская.jpg"/>
          <p:cNvPicPr/>
          <p:nvPr/>
        </p:nvPicPr>
        <p:blipFill>
          <a:blip r:embed="rId6"/>
          <a:stretch/>
        </p:blipFill>
        <p:spPr>
          <a:xfrm>
            <a:off x="6019920" y="426708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8713800" y="64468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503280" y="530280"/>
            <a:ext cx="818352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5040" indent="-14760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чистка от снега, сколка льда, подсыпка пешеходных тротуаров и остановочных комплек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8534520" y="63244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6AE8-B2D2-4C4A-BE00-464C5D9A74A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" descr="C:\Documents and Settings\Владелец\Рабочий стол\Таня\общественные работы 2013\ООО Чистый город\фото\декабрь\ФОТО 05.12.13\DSCN2576.JPG"/>
          <p:cNvPicPr/>
          <p:nvPr/>
        </p:nvPicPr>
        <p:blipFill>
          <a:blip r:embed="rId1"/>
          <a:stretch/>
        </p:blipFill>
        <p:spPr>
          <a:xfrm>
            <a:off x="457200" y="1447920"/>
            <a:ext cx="2209680" cy="2160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Documents and Settings\Владелец\Рабочий стол\Таня\общественные работы 2013\ООО Чистый город\фото\декабрь\ФОТО 05.12.13\DSCN2557.JPG"/>
          <p:cNvPicPr/>
          <p:nvPr/>
        </p:nvPicPr>
        <p:blipFill>
          <a:blip r:embed="rId2"/>
          <a:stretch/>
        </p:blipFill>
        <p:spPr>
          <a:xfrm>
            <a:off x="3200400" y="1447920"/>
            <a:ext cx="2590920" cy="2160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C:\Documents and Settings\Владелец\Рабочий стол\Таня\общественные работы 2013\ООО Чистый город\фото\декабрь\ФОТО 05.12.13\DSCN2558.JPG"/>
          <p:cNvPicPr/>
          <p:nvPr/>
        </p:nvPicPr>
        <p:blipFill>
          <a:blip r:embed="rId3"/>
          <a:stretch/>
        </p:blipFill>
        <p:spPr>
          <a:xfrm>
            <a:off x="6172200" y="1447920"/>
            <a:ext cx="2498760" cy="2160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C:\Documents and Settings\Владелец\Рабочий стол\Таня\общественные работы 2013\ООО Чистый город\фото\декабрь\ФОТО 05.12.13\DSCN2565.JPG"/>
          <p:cNvPicPr/>
          <p:nvPr/>
        </p:nvPicPr>
        <p:blipFill>
          <a:blip r:embed="rId4"/>
          <a:stretch/>
        </p:blipFill>
        <p:spPr>
          <a:xfrm>
            <a:off x="914400" y="3733920"/>
            <a:ext cx="3124080" cy="2160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Documents and Settings\Владелец\Рабочий стол\Таня\общественные работы 2013\ООО Чистый город\фото\декабрь\ФОТО 05.12.13\DSCN2567.JPG"/>
          <p:cNvPicPr/>
          <p:nvPr/>
        </p:nvPicPr>
        <p:blipFill>
          <a:blip r:embed="rId5"/>
          <a:stretch/>
        </p:blipFill>
        <p:spPr>
          <a:xfrm>
            <a:off x="5105520" y="3733920"/>
            <a:ext cx="3184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4"/>
          <p:cNvSpPr/>
          <p:nvPr/>
        </p:nvSpPr>
        <p:spPr>
          <a:xfrm>
            <a:off x="2781000" y="1143000"/>
            <a:ext cx="32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.Данилова, Леваневского, Набереж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685800" y="357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ашивание травы вдоль городских дорог и пешеходных троту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1"/>
          <p:cNvSpPr/>
          <p:nvPr/>
        </p:nvSpPr>
        <p:spPr>
          <a:xfrm>
            <a:off x="8534520" y="63244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174F-08FB-40BB-9BC1-08C9DF7543B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9" descr="C:\Documents and Settings\Владелец\Рабочий стол\Таня\общественные работы 2013\ООО Чистый город\фото\сенокос июль\Данилова2.jpg"/>
          <p:cNvPicPr/>
          <p:nvPr/>
        </p:nvPicPr>
        <p:blipFill>
          <a:blip r:embed="rId1"/>
          <a:stretch/>
        </p:blipFill>
        <p:spPr>
          <a:xfrm>
            <a:off x="533520" y="15238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C:\Documents and Settings\Владелец\Рабочий стол\Таня\общественные работы 2013\ООО Чистый город\фото\сенокос июль\Леваневского2.jpg"/>
          <p:cNvPicPr/>
          <p:nvPr/>
        </p:nvPicPr>
        <p:blipFill>
          <a:blip r:embed="rId2"/>
          <a:stretch/>
        </p:blipFill>
        <p:spPr>
          <a:xfrm>
            <a:off x="5410080" y="15238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C:\Documents and Settings\Владелец\Рабочий стол\Таня\общественные работы 2013\ООО Чистый город\фото\сенокос июль\Плотина2222.jpg"/>
          <p:cNvPicPr/>
          <p:nvPr/>
        </p:nvPicPr>
        <p:blipFill>
          <a:blip r:embed="rId3"/>
          <a:stretch/>
        </p:blipFill>
        <p:spPr>
          <a:xfrm>
            <a:off x="2971800" y="3962520"/>
            <a:ext cx="30798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1"/>
          <p:cNvSpPr/>
          <p:nvPr/>
        </p:nvSpPr>
        <p:spPr>
          <a:xfrm>
            <a:off x="8686800" y="6324480"/>
            <a:ext cx="38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AF7B-E50B-473F-ACC0-3361AA95727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304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«Развитие и поддержка малого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предпринимательства в муниципаль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и «Городской округ – город Кудымкар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11-2013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Диаграмма 5" descr=""/>
          <p:cNvPicPr/>
          <p:nvPr/>
        </p:nvPicPr>
        <p:blipFill>
          <a:blip r:embed="rId1"/>
          <a:stretch/>
        </p:blipFill>
        <p:spPr>
          <a:xfrm>
            <a:off x="711360" y="1981080"/>
            <a:ext cx="7492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CCCA-02B0-423E-8829-BE254A88CDB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3062520" y="195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ероприятия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520" y="566640"/>
          <a:ext cx="8100720" cy="5996160"/>
        </p:xfrm>
        <a:graphic>
          <a:graphicData uri="http://schemas.openxmlformats.org/drawingml/2006/table">
            <a:tbl>
              <a:tblPr/>
              <a:tblGrid>
                <a:gridCol w="3224160"/>
                <a:gridCol w="1066680"/>
                <a:gridCol w="3809880"/>
              </a:tblGrid>
              <a:tr h="83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da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освоенных средств 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da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da9"/>
                    </a:solidFill>
                  </a:tcPr>
                </a:tc>
              </a:tr>
              <a:tr h="9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редоставлениесубсидий субъектам МСП на организацию групп дневного времяпрепровождения для детей дошколь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 третий транш субъекту МСП на организацию групп дневного времяпрепровождения для детей дошкольного возраста в количестве 14 человек. С августа 2013 году центр начал принимать дет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редоставление грантов начинающим субъектам малого предпринимательства в целях возмещения части затрат, связанных с налом предпринимательской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5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оритетных отраслях , в целях возмещения части затрат предоставлены гранты  22-м начинающим субъектам МСП. В результате было создано 46 рабочих ме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убсидирование части затрат субъектов СМП, в том числе участникам инновационных территориальных кластеров, связанных с приобретением оборуд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елях создания, развития  и модернизации производства товаров предоставлены субсидии 2-м субъектам МСП ( ОАО «Молоко», ООО «Маг»). За счет средств местного бюджета -271,8 тыс. руб., краевого – 718,7 тыс. руб., федерального – 1527,3 тыс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ополнение уставного капитала Муниципального фонда поддержки малого предпринимательства г. Кудымкара с целью предоставления микрокредитов на развит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м фондом выдано 23 займа на общую сумму 2000,0 тыс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Организация дополнительного профессионального обучения начинающих предпринимателей основам предпринимательской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ое образование прошло более 50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Организация и проведение конкурса «Предприниматель год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и конкурса были подведены к юбилею город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f1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Проведение и содействие участию в выставках и ярмарках. Освещение в СМИ вопросов поддержки субъектов МС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 3 сельхоз ярмарки, организовано 4 семинара и 3 образовательные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be2"/>
                    </a:solidFill>
                  </a:tcPr>
                </a:tc>
              </a:tr>
            </a:tbl>
          </a:graphicData>
        </a:graphic>
      </p:graphicFrame>
      <p:sp>
        <p:nvSpPr>
          <p:cNvPr id="296" name="TextBox 3"/>
          <p:cNvSpPr/>
          <p:nvPr/>
        </p:nvSpPr>
        <p:spPr>
          <a:xfrm>
            <a:off x="8712360" y="6505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1"/>
          <p:cNvSpPr/>
          <p:nvPr/>
        </p:nvSpPr>
        <p:spPr>
          <a:xfrm>
            <a:off x="8534520" y="64008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3791-F241-4CD4-B383-5CC95812AAD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" descr="C:\Documents and Settings\User\Рабочий стол\Стоянова все\ФОТО\фото день города 2013\DSC_0154.JPG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6638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1385280" y="457200"/>
            <a:ext cx="55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курс «Предприниматель год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бедитель в номинации «Сфера услу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ОО «РИ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1"/>
          <p:cNvSpPr/>
          <p:nvPr/>
        </p:nvSpPr>
        <p:spPr>
          <a:xfrm>
            <a:off x="8458200" y="640080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42F0-2D57-476C-9B9B-231A9764F46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762120" y="347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тупление доходов в бюджет от использ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95360" y="1203480"/>
          <a:ext cx="8229600" cy="1630080"/>
        </p:xfrm>
        <a:graphic>
          <a:graphicData uri="http://schemas.openxmlformats.org/drawingml/2006/table">
            <a:tbl>
              <a:tblPr/>
              <a:tblGrid>
                <a:gridCol w="2438280"/>
                <a:gridCol w="1371600"/>
                <a:gridCol w="1127160"/>
                <a:gridCol w="1646280"/>
                <a:gridCol w="164628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 план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 фак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ло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дная плата за зем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1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4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6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а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7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1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4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73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235320"/>
          <a:ext cx="8458200" cy="3110040"/>
        </p:xfrm>
        <a:graphic>
          <a:graphicData uri="http://schemas.openxmlformats.org/drawingml/2006/table">
            <a:tbl>
              <a:tblPr/>
              <a:tblGrid>
                <a:gridCol w="2590920"/>
                <a:gridCol w="1371600"/>
                <a:gridCol w="1112760"/>
                <a:gridCol w="1690920"/>
                <a:gridCol w="169200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 план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 фак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ло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дная плата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6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6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9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а муниципального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7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 продажи пр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ление дивидендов от ОАО,О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58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5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099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sp>
        <p:nvSpPr>
          <p:cNvPr id="304" name="TextBox 5"/>
          <p:cNvSpPr/>
          <p:nvPr/>
        </p:nvSpPr>
        <p:spPr>
          <a:xfrm>
            <a:off x="2906280" y="83340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емельных участ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2381760" y="2895480"/>
            <a:ext cx="36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1"/>
          <p:cNvSpPr/>
          <p:nvPr/>
        </p:nvSpPr>
        <p:spPr>
          <a:xfrm>
            <a:off x="8610480" y="63244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E281-B009-4988-A639-3E4B671990F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60948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земельных участк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ногодетным семь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Схема 2" descr=""/>
          <p:cNvPicPr/>
          <p:nvPr/>
        </p:nvPicPr>
        <p:blipFill>
          <a:blip r:embed="rId1"/>
          <a:stretch/>
        </p:blipFill>
        <p:spPr>
          <a:xfrm>
            <a:off x="536400" y="1011240"/>
            <a:ext cx="7705800" cy="2762280"/>
          </a:xfrm>
          <a:prstGeom prst="rect">
            <a:avLst/>
          </a:prstGeom>
          <a:ln w="0">
            <a:noFill/>
          </a:ln>
        </p:spPr>
      </p:pic>
      <p:pic>
        <p:nvPicPr>
          <p:cNvPr id="309" name="Диаграмма 3" descr=""/>
          <p:cNvPicPr/>
          <p:nvPr/>
        </p:nvPicPr>
        <p:blipFill>
          <a:blip r:embed="rId2"/>
          <a:stretch/>
        </p:blipFill>
        <p:spPr>
          <a:xfrm>
            <a:off x="1320840" y="4140360"/>
            <a:ext cx="6197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1"/>
          <p:cNvSpPr/>
          <p:nvPr/>
        </p:nvSpPr>
        <p:spPr>
          <a:xfrm>
            <a:off x="8458200" y="63244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2E18-5EBE-4FC8-8690-5F3344453DF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2908080" y="5302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ые зака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Диаграмма 3" descr=""/>
          <p:cNvPicPr/>
          <p:nvPr/>
        </p:nvPicPr>
        <p:blipFill>
          <a:blip r:embed="rId1"/>
          <a:stretch/>
        </p:blipFill>
        <p:spPr>
          <a:xfrm>
            <a:off x="863640" y="1092240"/>
            <a:ext cx="7416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1"/>
          <p:cNvSpPr/>
          <p:nvPr/>
        </p:nvSpPr>
        <p:spPr>
          <a:xfrm>
            <a:off x="822960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B25-42C8-42D0-A8C9-7B913B8991A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3063600" y="52380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ые услу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Диаграмма 3" descr=""/>
          <p:cNvPicPr/>
          <p:nvPr/>
        </p:nvPicPr>
        <p:blipFill>
          <a:blip r:embed="rId1"/>
          <a:stretch/>
        </p:blipFill>
        <p:spPr>
          <a:xfrm>
            <a:off x="406440" y="901800"/>
            <a:ext cx="4902120" cy="28065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4"/>
          <p:cNvSpPr/>
          <p:nvPr/>
        </p:nvSpPr>
        <p:spPr>
          <a:xfrm>
            <a:off x="2362320" y="3733920"/>
            <a:ext cx="6629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аиболее востребованные услуг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ка на учет детей для зачисления в учреждения, реализующие основную общеобразовательную программу дошкольного образования, выдача направлений (путевки) и зачисление детей в указанные учреждени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 предоставлении компенсационных  расходов, связанных с оказанием услуг по дошкольному образованию без предоставления места в муниципальные дошкольные  образовательные учреждения семьям, имеющим детей от 1,5 до 5 лет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ка на учет в качестве нуждающихся в жилых помещениях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знание молодых семей нуждающимися в улучшении жилищных услов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дача свидетельств молодым семьям на получение социальной выплаты для улучшения жилищных услов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8686800" y="634680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29D2-94CC-414C-8BF6-4CE8AFA8448E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743120" y="-103320"/>
            <a:ext cx="740088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1371600" y="97308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на конец года, че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Номер слайда 9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250920" y="33336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Object 3" descr=""/>
          <p:cNvPicPr/>
          <p:nvPr/>
        </p:nvPicPr>
        <p:blipFill>
          <a:blip r:embed="rId2"/>
          <a:stretch/>
        </p:blipFill>
        <p:spPr>
          <a:xfrm>
            <a:off x="880920" y="3209760"/>
            <a:ext cx="7513920" cy="14796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3" descr=""/>
          <p:cNvPicPr/>
          <p:nvPr/>
        </p:nvPicPr>
        <p:blipFill>
          <a:blip r:embed="rId3"/>
          <a:stretch/>
        </p:blipFill>
        <p:spPr>
          <a:xfrm>
            <a:off x="990720" y="1314360"/>
            <a:ext cx="7172280" cy="26193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3300120" y="387360"/>
            <a:ext cx="16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Диаграмма 2" descr=""/>
          <p:cNvPicPr/>
          <p:nvPr/>
        </p:nvPicPr>
        <p:blipFill>
          <a:blip r:embed="rId4"/>
          <a:stretch/>
        </p:blipFill>
        <p:spPr>
          <a:xfrm>
            <a:off x="1549440" y="3981600"/>
            <a:ext cx="6197400" cy="2387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3257640" y="3666960"/>
            <a:ext cx="24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рост населения, че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1"/>
          <p:cNvSpPr/>
          <p:nvPr/>
        </p:nvSpPr>
        <p:spPr>
          <a:xfrm>
            <a:off x="8534520" y="6248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64CD-60DC-4400-A6B8-A0D7F108431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2"/>
          <p:cNvSpPr/>
          <p:nvPr/>
        </p:nvSpPr>
        <p:spPr>
          <a:xfrm>
            <a:off x="1918440" y="281952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1"/>
          <p:cNvSpPr/>
          <p:nvPr/>
        </p:nvSpPr>
        <p:spPr>
          <a:xfrm>
            <a:off x="8686800" y="6324480"/>
            <a:ext cx="38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05BB-22FE-4B60-81DE-03AF2131B71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Объект 2" descr=""/>
          <p:cNvPicPr/>
          <p:nvPr/>
        </p:nvPicPr>
        <p:blipFill>
          <a:blip r:embed="rId1"/>
          <a:stretch/>
        </p:blipFill>
        <p:spPr>
          <a:xfrm>
            <a:off x="2133720" y="1239840"/>
            <a:ext cx="4676760" cy="26463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2749680" y="923760"/>
            <a:ext cx="29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исленность безработных, че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Объект 4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7162920" cy="2311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5"/>
          <p:cNvSpPr/>
          <p:nvPr/>
        </p:nvSpPr>
        <p:spPr>
          <a:xfrm>
            <a:off x="2652480" y="4572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1"/>
          <p:cNvSpPr/>
          <p:nvPr/>
        </p:nvSpPr>
        <p:spPr>
          <a:xfrm>
            <a:off x="8610480" y="632448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3F3F-3AB5-4E20-B6D3-9F2611BF6BD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1518480" y="112248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заработной платы,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768760" y="53172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4579920" y="4572000"/>
            <a:ext cx="327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мпы роста по отдельным отрасля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равоохранение – 124,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 – 121,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Объект 3" descr=""/>
          <p:cNvPicPr/>
          <p:nvPr/>
        </p:nvPicPr>
        <p:blipFill>
          <a:blip r:embed="rId1"/>
          <a:stretch/>
        </p:blipFill>
        <p:spPr>
          <a:xfrm>
            <a:off x="533520" y="1440000"/>
            <a:ext cx="56800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8381880" y="63183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0EA8-84DA-40AA-B197-8EC36D4CF46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250920" y="33336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4343400" y="3065400"/>
            <a:ext cx="31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т организаций, млн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Диаграмма 1" descr=""/>
          <p:cNvPicPr/>
          <p:nvPr/>
        </p:nvPicPr>
        <p:blipFill>
          <a:blip r:embed="rId1"/>
          <a:stretch/>
        </p:blipFill>
        <p:spPr>
          <a:xfrm>
            <a:off x="3589200" y="3530520"/>
            <a:ext cx="4648320" cy="26035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764640" y="5284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хозяйствующих субъектов, 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Диаграмма 5" descr=""/>
          <p:cNvPicPr/>
          <p:nvPr/>
        </p:nvPicPr>
        <p:blipFill>
          <a:blip r:embed="rId2"/>
          <a:stretch/>
        </p:blipFill>
        <p:spPr>
          <a:xfrm>
            <a:off x="457200" y="903240"/>
            <a:ext cx="5054760" cy="31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8548560" y="6356520"/>
            <a:ext cx="519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0069-7539-44CE-99FF-8A744D7F305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Номер слайда 9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250920" y="33336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Object 3" descr=""/>
          <p:cNvPicPr/>
          <p:nvPr/>
        </p:nvPicPr>
        <p:blipFill>
          <a:blip r:embed="rId1"/>
          <a:stretch/>
        </p:blipFill>
        <p:spPr>
          <a:xfrm>
            <a:off x="880920" y="3209760"/>
            <a:ext cx="7513920" cy="1479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"/>
          <p:cNvSpPr/>
          <p:nvPr/>
        </p:nvSpPr>
        <p:spPr>
          <a:xfrm>
            <a:off x="2057400" y="376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казатели развития СМ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Объект 2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734000" cy="2600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393840" y="928800"/>
            <a:ext cx="555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убъектов малого и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0 000 челов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3171960" y="4352760"/>
            <a:ext cx="5376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от розничной торговли – 3033,9 млн.руб. (113,9% к 2012г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от общественного питания – 118,0млн.руб. (93,0% к 2012г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ственный транспорт  - перевезено 2,0 млн. пассажи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1"/>
          <p:cNvSpPr/>
          <p:nvPr/>
        </p:nvSpPr>
        <p:spPr>
          <a:xfrm>
            <a:off x="8686800" y="64008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4005-B5E3-4566-A233-20AEEF23AF7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823400" y="39852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нвестиции в основной капитал, млн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Диаграмма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535932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Диаграмма 5"/>
          <p:cNvGraphicFramePr/>
          <p:nvPr/>
        </p:nvGraphicFramePr>
        <p:xfrm>
          <a:off x="4368960" y="3454560"/>
          <a:ext cx="4140000" cy="304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7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68960" y="3454560"/>
                    <a:ext cx="4140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1"/>
          <p:cNvSpPr/>
          <p:nvPr/>
        </p:nvSpPr>
        <p:spPr>
          <a:xfrm>
            <a:off x="8610480" y="6248520"/>
            <a:ext cx="30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7A21-4507-4274-BD3F-E681A64564D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776960" y="55404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лизация муниципальных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Диаграмма 3" descr=""/>
          <p:cNvPicPr/>
          <p:nvPr/>
        </p:nvPicPr>
        <p:blipFill>
          <a:blip r:embed="rId1"/>
          <a:stretch/>
        </p:blipFill>
        <p:spPr>
          <a:xfrm>
            <a:off x="635040" y="965160"/>
            <a:ext cx="77976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1"/>
          <p:cNvSpPr/>
          <p:nvPr/>
        </p:nvSpPr>
        <p:spPr>
          <a:xfrm>
            <a:off x="8839080" y="6559560"/>
            <a:ext cx="304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2E24-9194-4530-945C-B84C2F908C5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838440" y="347760"/>
            <a:ext cx="723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ая программа  «Содействие занятости насел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Городской округ – город Кудымкар» на 2012-2014 г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80880" y="871560"/>
          <a:ext cx="8382240" cy="3203640"/>
        </p:xfrm>
        <a:graphic>
          <a:graphicData uri="http://schemas.openxmlformats.org/drawingml/2006/table">
            <a:tbl>
              <a:tblPr/>
              <a:tblGrid>
                <a:gridCol w="1905120"/>
                <a:gridCol w="714240"/>
                <a:gridCol w="1038240"/>
                <a:gridCol w="990720"/>
                <a:gridCol w="762120"/>
                <a:gridCol w="29718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ник финанс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смотрено программ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ерждено бюджетом (тыс. 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воено (тыс. 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бщественных раб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ный бюдж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о 13 договоров о совместной деятельности по  организации общественных работ (с ОАО «Гостиница Парма»- 6, с ООО «Чистый город»- 7). Всего было трудоустроено 46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53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ременного трудоустройства несовершеннолетних граждан от 14 до 18 лет в свободное от учебы 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ный бюдж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устроено было 47 школьников в МАОУ ДОД «ДЮСШ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sp>
        <p:nvSpPr>
          <p:cNvPr id="264" name="TextBox 5"/>
          <p:cNvSpPr/>
          <p:nvPr/>
        </p:nvSpPr>
        <p:spPr>
          <a:xfrm>
            <a:off x="2667240" y="3959280"/>
            <a:ext cx="403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зультаты реализации программы в 2013 год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80880" y="4267080"/>
          <a:ext cx="8367840" cy="2514600"/>
        </p:xfrm>
        <a:graphic>
          <a:graphicData uri="http://schemas.openxmlformats.org/drawingml/2006/table">
            <a:tbl>
              <a:tblPr/>
              <a:tblGrid>
                <a:gridCol w="6767640"/>
                <a:gridCol w="838080"/>
                <a:gridCol w="762120"/>
              </a:tblGrid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 эффекти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ать среднегодовой уровень регистрируемой безработ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29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алансированность предложения и спроса рабочей силы на рынке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0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организации рабочих мест на общественные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ое трудоустройств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пуск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личных категорий граж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0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профессиональной подготовкой безработных граждан с целью их трудоустр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29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ориентация безработных граж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4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Администрация</cp:lastModifiedBy>
  <cp:lastPrinted>2014-05-29T07:51:39Z</cp:lastPrinted>
  <dcterms:modified xsi:type="dcterms:W3CDTF">2014-09-01T07:29:04Z</dcterms:modified>
  <cp:revision>1100</cp:revision>
  <dc:subject/>
  <dc:title>Слайд 1</dc:title>
</cp:coreProperties>
</file>